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D458-E02D-4D5C-8205-536C0DA2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6F1F-14AD-4992-B838-C2C16D05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197D-E609-4FCD-AB31-4F22BF2E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C57C-CC79-418A-A7B2-42E7F2CF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2A7A-C46D-494E-9054-BFF5C33E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8324-9317-452B-B749-25462E7D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D0CC-E0BE-44B3-BA4F-AC091F1D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350D-F0EB-4E38-8369-AFFCDB7E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432E-F0E3-46BC-A4D7-1E23EC2E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8D70-CD26-46ED-8243-328FB102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C428-0D4E-47C9-B9F3-0E44E41A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14D6-A42B-4490-BC05-0F9DE2D5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4F4B-5B4F-4530-AF8C-86F873BF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93D6-3285-48A3-810F-AD4587EE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2457-A212-41A0-AE08-2C3868B3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3149-A2C2-4FC8-A073-FFB34DE8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7192-2EDB-4CDE-BD7C-7C770388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A8EB-0DB6-492F-B5AA-CDAD3DFF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E52-B747-4D6F-8162-9D7B0FA5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0299-C2C3-4FC7-8A39-DD28A94C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EAE-9456-46EA-898F-96D1DDF0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7CC7-5627-49B9-9E05-D2B183D9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136A-837B-47E8-A6A2-D7270A6B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893F-D528-4E5D-B503-89AD9E73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AB9F-2676-467C-B825-72D5F7FC6E3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8A51-CA49-4307-92D2-CA1B31871A5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bject/Verb Agre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s. Wellman-High Ho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jacket that I bought with two pairs of pants ____ a barg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w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w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:  w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vs. Or &amp; N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 is two or more nouns (pronouns) connected by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= PLURAL VE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041a"/>
                </a:solidFill>
                <a:latin typeface="Arial"/>
              </a:rPr>
              <a:t>Mo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c041a"/>
                </a:solidFill>
                <a:latin typeface="Arial"/>
              </a:rPr>
              <a:t>her friends 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 the fai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 is two or more singular nouns connected by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/ n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SINGULAR VE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ec041a"/>
                </a:solidFill>
                <a:latin typeface="Arial"/>
              </a:rPr>
              <a:t>boo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0" lang="en-US" sz="2800" spc="-1" strike="noStrike">
                <a:solidFill>
                  <a:srgbClr val="ec041a"/>
                </a:solidFill>
                <a:latin typeface="Arial"/>
              </a:rPr>
              <a:t>p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c041a"/>
                </a:solidFill>
                <a:latin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dra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vs. Or &amp; Nor (con’t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 contains both singular and plural noun (pronoun) connected b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 / n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VERB AGREES WITH NOUN NEARER TO VE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o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is </a:t>
            </a:r>
            <a:r>
              <a:rPr b="0" lang="en-US" sz="2800" spc="-1" strike="noStrike">
                <a:solidFill>
                  <a:srgbClr val="ec041a"/>
                </a:solidFill>
                <a:latin typeface="Arial"/>
              </a:rPr>
              <a:t>friends ru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very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friend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0" lang="en-US" sz="2800" spc="-1" strike="noStrike">
                <a:solidFill>
                  <a:srgbClr val="ec041a"/>
                </a:solidFill>
                <a:latin typeface="Arial"/>
              </a:rPr>
              <a:t>boy ru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very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e cream and yogurt ______ equally deliciou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: 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 and Toby, my dogs, ______ tug-of-war with each oth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: 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wyer or his secretary ______ the phon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: ans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ther the teacher nor the students ____ to work hard toda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: w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tur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2 sentences connecting the nouns with both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using “or / nor,” be mindful if your subject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singul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ular and pl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is / There 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sentences beginning with “there is” or “there are,” the subject follows the ver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many </a:t>
            </a:r>
            <a:r>
              <a:rPr b="0" lang="en-US" sz="3200" spc="-1" strike="noStrike">
                <a:solidFill>
                  <a:srgbClr val="ec041a"/>
                </a:solidFill>
                <a:latin typeface="Arial"/>
              </a:rPr>
              <a:t>ques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(plur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</a:t>
            </a:r>
            <a:r>
              <a:rPr b="0" lang="en-US" sz="3200" spc="-1" strike="noStrike">
                <a:solidFill>
                  <a:srgbClr val="ec041a"/>
                </a:solidFill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(singula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definite Pronouns </a:t>
            </a:r>
            <a:br>
              <a:rPr sz="4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n you name som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71680" y="1828800"/>
            <a:ext cx="392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one /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o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92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u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ular subject needs singular ve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041a"/>
                </a:solidFill>
                <a:latin typeface="Arial"/>
              </a:rPr>
              <a:t>Mandy jum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joy at the ga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ral subjects needs plural ver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041a"/>
                </a:solidFill>
                <a:latin typeface="Arial"/>
              </a:rPr>
              <a:t>Mand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ec041a"/>
                </a:solidFill>
                <a:latin typeface="Arial"/>
              </a:rPr>
              <a:t>Jim jum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joy at the ga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343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definite Pronouns </a:t>
            </a:r>
            <a:br>
              <a:rPr sz="4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n you name some that are singular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plural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960" y="1828440"/>
            <a:ext cx="20955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819520" y="1981080"/>
            <a:ext cx="63244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ular or plural depends on what the indefinite pronoun refers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of the people clap their ha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of the newspaper is soak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one _____ until the teacher gives permiss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: le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body at the games ______ a gift certific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: rece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______ outside the hou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re lu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lu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: was lu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of the students ______ to bring $10 by Frida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: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al of the students ______ to bring $10 by Frida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: 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of the money ______ missing from the sa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: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of the cookies ______ missing from the j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: 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noun-Anteced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n anteced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noun usually refers to another noun or pronoun, which is called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tece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liss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rove the car all the way t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randma’s ho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ece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41911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8000640" y="4191120"/>
            <a:ext cx="3049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15200" y="3733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no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noun-Anteced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noun needs to agree in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umber, gender, and pers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th its antece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1: He won the award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ok of po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2: The students hav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i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ok ba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ir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s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umb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ular pronoun = singular antece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li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ll go to the store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rite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pronoun and antece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ral pronoun = plural antece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ildr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ll go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rite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pronoun and antece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ra took _____ dogs for a long wal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2000" indent="-3366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’s the pronoun that agrees with the anteced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d was out of breath when ____ rushed into the ro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2000" indent="-3366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’s the pronoun that agrees with the anteced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chool closed _____ doors for winter brea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2000" indent="-3366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’s the pronoun that agrees with the anteced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1320" y="4572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rs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340200" indent="-264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, Second, and Third Pers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62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the pronoun that agrees with its antece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0200" indent="-264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Person EX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62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adopted ____ cat from the animal shel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0200" indent="-264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erson EX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62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d you paint this landscape _______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0200" indent="-264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Person EX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62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built ____ own home in the Black H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prono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ly and Tommy need to make _____ be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ru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&amp; P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prono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ly needs to finish _____ laundry before she can join 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ru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&amp; 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veball: Indefinite Pronoun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prono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will go to the store with _____ m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/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rule - sing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definite Pronoun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prono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of the players have to work on _____ ball-handling ski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rule - pl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definite Pronoun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prono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body knew the answer to the question on _____ ex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/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rule - sing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definite Pronoun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prono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f the them are in _____ seat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&amp; Person - pl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definite Pronoun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prono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of the schools will start _____ Christmas break on Wednesda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- neut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ir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s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Turn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3 sentences, one for each indefinite pronou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ular or pl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lm trees _____ little sh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g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g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lm tree _____ little sh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g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g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n’t be fooled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words that come between the subject and ve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nners on our track team _____ a trophy every year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w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w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: w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ions, waiting in front of their trainer,  _____ his command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ob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ob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:  ob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9:33:33Z</dcterms:created>
  <dc:creator>Don Dalton</dc:creator>
  <dc:description/>
  <dc:language>en-US</dc:language>
  <cp:lastModifiedBy>Don Dalton</cp:lastModifiedBy>
  <dcterms:modified xsi:type="dcterms:W3CDTF">2012-02-07T14:40:56Z</dcterms:modified>
  <cp:revision>54</cp:revision>
  <dc:subject/>
  <dc:title>Subject/Verb Agreement</dc:title>
</cp:coreProperties>
</file>